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E471-B370-4EAB-8EC4-DEA25BEB9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A97F-DDFC-4723-983C-7B8A52D5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618-C312-45E2-9E8B-6ED94EAF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989A-3C9B-4FE0-831C-56073E660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D5B3-2AD0-4209-A2D6-DAB0C22E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60CB-71EB-456C-A58B-39C5087C0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308-AC0F-4986-8E73-B6E355AF2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B174-4CC9-4EDA-B346-DF19566B2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4324-A5FF-4D8E-BEFF-EA666979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C282-FE79-4DC2-A7DA-A97BE1945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77E7-A7BB-4D80-B1F8-92DDC5113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7D0C-4D79-49B1-95BE-5237DE88B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951A-2151-4758-A538-CA817F4FC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A2ED-EB82-4A06-B4A4-2C8776610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C26C-ADF3-447C-82A5-130BA38F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593B-6173-4E73-B5F3-09F88D5D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A123-4BAC-400F-858E-A2711F20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0CB9-B7C5-4AF5-BC32-4E697DCA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149-FF88-4EC8-BF28-C62CE93B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034-0B2A-4789-9B1B-400D876C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4B7-B3D4-49EC-96F3-0A7E01BB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6C8-C9CE-40E3-BD25-456F2CBC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CBC3-5BC0-4A78-AC19-88847D4F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2304-CA77-4176-8BB7-A1D9C0BE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28E8-7D2C-4E4B-B75D-1F6102F0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9A0F-E91B-47E0-B8A1-71579003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EDDA-9E89-40A1-88BA-005BE6D7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E115-3F02-4C15-9C3B-8803ED08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4980-0325-445B-8649-A0FC510E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AFC-5B0D-40EC-BD21-6782DB66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0653-7108-4BED-8F2E-4C2FFB2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6CF9-7702-4F73-89BD-729CC08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B6D8-4042-49EE-859C-AB11489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6400-76D4-484F-A87A-6CAEA746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6F35-8E70-4AD4-8067-8522BD6B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E04-A301-4132-9754-F63888E2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38C-9DDC-4537-B8F7-CC31F047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E8F-03C1-419B-BD48-CF0E84A8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361-E1F7-4DBE-94EE-96AB9F38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8F2-313F-4D07-902A-75BDCB5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E54-D3B7-4B45-900F-27B7637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8E8-E0D8-4E58-99EC-8C7D34E9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1E86-1871-46D1-BF63-92779CA54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CB59-2428-4990-AE07-32D631658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panic 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ry and Backgro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hicano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 term used solely in reference to people of Mexican de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quistadors called Mexican Indian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a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ards dropped th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lled them Xicanos (or Chica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hicano</a:t>
            </a:r>
            <a:r>
              <a:rPr b="1" lang="ja-JP" sz="4400" spc="-1" strike="noStrike">
                <a:solidFill>
                  <a:srgbClr val="996600"/>
                </a:solidFill>
                <a:latin typeface="Times New Roman"/>
              </a:rPr>
              <a:t>”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popular in 193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4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s a derogatory term for Mexicans imported for cheap field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 went out of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7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the Brown Power Movement adopted it as term for Mexican-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erm still has negative connotations for many Mexican-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tory of Latino      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s in legend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as 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to the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054760" y="533520"/>
            <a:ext cx="408924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o 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he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62120" y="2571840"/>
            <a:ext cx="6629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l relationships an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yal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der ro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prot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3124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hy Poverty?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rty is largely at issue because of the desperate situations in which many Latin American countries find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124440" cy="208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190476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hy Families?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is considered one's strongest bond and loyalty, and people in the workforce must often work to support relatives both in the U.S. and in other native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hy gender roles?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, older customs and cultural traditions prevail. Women were expected to be obedient and uphold the family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1981080" cy="165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715000" y="3200400"/>
            <a:ext cx="2457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hy social protest and exploitation?</a:t>
            </a:r>
            <a:br>
              <a:rPr sz="4400"/>
            </a:b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Hispanic countries have gone through periods of social un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 =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ican Republic = dictat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4648320"/>
            <a:ext cx="1346040" cy="161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2184480" cy="134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486400" y="4495680"/>
            <a:ext cx="24890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literature is rich with culture and social commen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panic literary themes echo American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s are based on lif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use term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changeab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o v. Hispanic v.Chicano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ja-JP" sz="3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the right term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o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s from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 in the base language of Spanish, Italian, Portuguese, and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in Spanish the word for cave i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e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Portugues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alia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88092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tins (aka Romans) invaded the Iberian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d a province nam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S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48006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 Amer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 is a geographic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from Latin America are all Latin, but not all His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Brazilians speak Portuguese, making them Latin not His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51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ja-JP" sz="44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o/a</a:t>
            </a:r>
            <a:r>
              <a:rPr b="1" lang="ja-JP" sz="4400" spc="-1" strike="noStrike">
                <a:solidFill>
                  <a:srgbClr val="996600"/>
                </a:solidFill>
                <a:latin typeface="Times New Roman"/>
              </a:rPr>
              <a:t>”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6708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s we -- Americans-- use it) encompasses all citizens of the United States whose heritage is Mexican, Puerto Rican, Cuban, Central American, and South Ameri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panic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later used to refer to all territories conquered by Spain in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vers almost all of Lat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276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16048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685800"/>
            <a:ext cx="4647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me about in the 1970s as a US Census attempt to quantify Spanish-speaki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Hispanic is used to refer to any people whose culture and heritage have direct ties to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365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99540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is not a RACE but an ETHNIC dis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s come from all races and physical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59565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5:34:44Z</dcterms:created>
  <dc:creator>Media Productions</dc:creator>
  <dc:description/>
  <dc:language>en-US</dc:language>
  <cp:lastModifiedBy>Troy Rivera</cp:lastModifiedBy>
  <dcterms:modified xsi:type="dcterms:W3CDTF">2014-03-10T16:34:46Z</dcterms:modified>
  <cp:revision>9</cp:revision>
  <dc:subject/>
  <dc:title>Latin American Literature</dc:title>
</cp:coreProperties>
</file>